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673-81B1-4C50-AC48-4F209DAB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26F-11B5-4D92-8845-31F870D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74E-E2F1-47C9-872C-295F76DC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D59-7F3F-425D-AD6A-1B6124D2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854-22B6-477B-B10B-CFAF7401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983-2287-4763-8948-202F1E75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B3D-ED44-46EC-9AD7-41B6B075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A75-4FAF-4003-8832-6E1BD736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147-DD73-43F3-9A24-2FEF4B7C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44E-1085-402F-AB85-4568A75E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A87-F573-445D-9E2E-DD1E6290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0C2-120D-4F8A-902F-D1D5B08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CA6-A6BD-4D8C-A52B-CDAE87F8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identify and explain cause and effect sit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ch the video.  Write down a cause and effect situa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ecause…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cau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ffec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hting for Fairness” Graphic Organizer on Cause an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 work on a cause and effect example together, finish the graphic organizer on your ow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, read quietly until we are all ready to discuss cause and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oose an article from the front of the room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LET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annotations on the arti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 RR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the RRJ, answ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re the people in your article affected by the actions of others that discriminated against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for RR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article I 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(maybe a group of peo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_____________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maybe the group discriminated against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…_(feel, not be able to…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know this is true be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text evidence #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ticle also mentioned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(text evidence #2)                                                    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helped me understand…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deas in articles and discover more cause/effect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0:51:10Z</dcterms:created>
  <dc:creator>Administrator</dc:creator>
  <dc:description/>
  <dc:language>en-US</dc:language>
  <cp:lastModifiedBy>Administrator</cp:lastModifiedBy>
  <dcterms:modified xsi:type="dcterms:W3CDTF">2010-08-31T21:17:34Z</dcterms:modified>
  <cp:revision>4</cp:revision>
  <dc:subject/>
  <dc:title>9-2 I can identify and explain cause and effect situations.</dc:title>
</cp:coreProperties>
</file>